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BE7-8BDE-4C1D-9FF9-9D0F31F9E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946-3DB6-4AE8-B121-C413214CA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692D-2565-4CC8-A75B-763F1CD9B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21E-1FAB-46C0-B033-69DE2E4F2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DEE-AE6E-464D-9440-853741CD1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675D-5D7A-41F9-BE39-49A26A79E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FE8-1B19-46AC-82FC-AE104849D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380-0A48-4481-8C64-6FB8AE5B7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E05-B80A-43D3-B29B-7DCC3414F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62E6-630D-49CF-887F-5F6263219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1257-8DB2-4FF7-80A2-71A395E0F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67B-92BA-44E1-8464-684B7591B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1E4-C7E4-4664-A78C-B3678AFC9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C431-682D-4328-9354-5D34E6B6A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63F-EB66-4506-B00C-F2C623C0B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B707-22AB-4091-9E10-776112D47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FD7F-C827-47E8-9D21-F15C56395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30F-B172-4994-BBC2-8C7EE5897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32C5-89CC-44F6-A55C-F5D803B0A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D4E3-4750-4816-81C4-6E17FBD1B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486F-316F-4CFA-8EAF-CB627437D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69B-3581-4364-B91D-632FFBFD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DB1-B48D-4754-A5F6-38E98B2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147-3DE5-4C6A-A3A3-3008C93E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BB9-2EFC-447C-9004-D9EDA6F2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785-AE23-4BE2-A6D3-BAA0393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F10-159B-46CC-BFB9-122FB47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A10-546A-40E0-BCE9-537CE41B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3BB-5D66-4E65-9B82-D6588DC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CD0-7DD5-4F8E-BBC2-6BCFE6E0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5D9-CC10-4094-B44E-A464F18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AE0-7EB2-4370-AFD7-35CD280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B2D-B29C-4566-88E0-ED6BEE8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1E1-E543-43D6-84D3-B6874200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school su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basic opinions about the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give your opinions on various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19280" y="357336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Comic Sans MS"/>
              </a:rPr>
              <a:t>el profeso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/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la profesora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s estricto /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ach_yelling_at_game_hg_clr"/>
          <p:cNvPicPr/>
          <p:nvPr/>
        </p:nvPicPr>
        <p:blipFill>
          <a:blip r:embed="rId1"/>
          <a:stretch/>
        </p:blipFill>
        <p:spPr>
          <a:xfrm>
            <a:off x="3348000" y="260280"/>
            <a:ext cx="2666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760" y="2571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gusta el ing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s por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30200" y="37306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like English becaus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t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28760" y="2214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encanta la geogra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ía porque es intere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really like Geography becaus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t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er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28760" y="15717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does the “es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2349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is – so how many people / things is this referring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00040" y="3571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plural subjects e.g. las ma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ticas, we have to use “son” = 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28760" y="2286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dio las ma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tic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or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aburri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hate Maths because it is b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760" y="20001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gustan las matemátic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porque son diver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68360" y="328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like Science because it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28760" y="20001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me gusta el esp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ñ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porque no me gusta el 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71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don’t like Spanish because I don’t like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85880" y="0"/>
            <a:ext cx="7715160" cy="71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Mis opiniones de las asignat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qu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verti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esant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urri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út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út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ác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fíc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profesor es simpático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ofesora es simpática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profesor es estrict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w give your opinions, IN FULL SENTENCES, on a minimum of 5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85880" y="1214280"/>
            <a:ext cx="7572240" cy="371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oing to move around 2 seats to your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e descriptions that person has wri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for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reements e.g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istoria ... aburrid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N for las matem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a USEFUL advisory comment on the post-it and stick it on that person’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85880" y="1214280"/>
            <a:ext cx="7572240" cy="311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organise the following sent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anta el es porque me divertido franc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es simpática historia profesora la l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ografía difícil es muy la odio por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write 3 of your own jumbled sentences to swap with a part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42920" y="1484280"/>
            <a:ext cx="741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por qu</a:t>
            </a: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é te gusta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42960" y="714240"/>
            <a:ext cx="75009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be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a sheet of blank paper, recreate your school timetable in Spa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es WRITTEN IN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ra vocab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recre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almuerz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list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dad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47640" y="3357720"/>
            <a:ext cx="698508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porque es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619280" y="3573360"/>
            <a:ext cx="59770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divertid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aughing"/>
          <p:cNvPicPr/>
          <p:nvPr/>
        </p:nvPicPr>
        <p:blipFill>
          <a:blip r:embed="rId1"/>
          <a:stretch/>
        </p:blipFill>
        <p:spPr>
          <a:xfrm>
            <a:off x="3276720" y="1052640"/>
            <a:ext cx="2428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9280" y="3573360"/>
            <a:ext cx="59770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aburrid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leeping"/>
          <p:cNvPicPr/>
          <p:nvPr/>
        </p:nvPicPr>
        <p:blipFill>
          <a:blip r:embed="rId1"/>
          <a:stretch/>
        </p:blipFill>
        <p:spPr>
          <a:xfrm>
            <a:off x="3203640" y="1484280"/>
            <a:ext cx="2638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42920" y="414972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oyraisinghand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42920" y="414972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út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onstruction_surveying_hg_clr"/>
          <p:cNvPicPr/>
          <p:nvPr/>
        </p:nvPicPr>
        <p:blipFill>
          <a:blip r:embed="rId1"/>
          <a:stretch/>
        </p:blipFill>
        <p:spPr>
          <a:xfrm>
            <a:off x="3276720" y="1268280"/>
            <a:ext cx="2590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000160" y="264312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omic Sans MS"/>
              </a:rPr>
              <a:t>fácil  / difíc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19280" y="357336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Comic Sans MS"/>
              </a:rPr>
              <a:t>el profeso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/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la profesora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s simp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ático /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thumbs up"/>
          <p:cNvPicPr/>
          <p:nvPr/>
        </p:nvPicPr>
        <p:blipFill>
          <a:blip r:embed="rId1"/>
          <a:stretch/>
        </p:blipFill>
        <p:spPr>
          <a:xfrm>
            <a:off x="3924360" y="189000"/>
            <a:ext cx="16556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3:58:30Z</dcterms:created>
  <dc:creator>Owner1</dc:creator>
  <dc:description/>
  <dc:language>en-US</dc:language>
  <cp:lastModifiedBy>Chris</cp:lastModifiedBy>
  <dcterms:modified xsi:type="dcterms:W3CDTF">2009-05-07T06:44:46Z</dcterms:modified>
  <cp:revision>7</cp:revision>
  <dc:subject/>
  <dc:title>Slide 1</dc:title>
</cp:coreProperties>
</file>